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1E6-4CA0-4A06-BB8F-4C329ECF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1E6-913F-4A11-BD55-45049AAB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FE1-40AE-445E-ABB4-9228252E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8F4-4772-477C-9F50-1C9BC172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9112-4826-418A-8790-F4C0DB3E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9C03-5BB6-4978-8631-F7A515EE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5D89-9F8E-474B-AFBB-95B03399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4864-56D8-4ECB-B2AB-F1318660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B116-001B-435C-A5A0-4D596CA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B149-F345-4C74-81DE-AAD63F3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AE64-235E-4DCF-908C-D69CE96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F4F-3D24-4992-91B6-3137B62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B4BE-A69A-484D-86F7-8E8977F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0EC2-09E9-4A22-9C32-D44DCD62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21F7-3A0C-409C-8219-7DB5E0C8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ACB1-C9A9-4969-B088-1FD3D661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51D-148A-4529-A1EB-6F61BCC3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4CB-C27C-4697-9ACA-EDB938B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0B6-ADB5-4FBC-8F81-85CCB01B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ED7-4C73-43A8-9E6E-78D5A5F8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71C-477F-40F2-A323-6226939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9B1-A905-4868-885C-42BAA465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452-9D0F-4D53-8984-2CCDBD0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29D-D65C-4C4C-A852-90A4E13B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0AA6-550F-471E-9390-7FC9945873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DDA4-930C-4F32-93F8-0C3D2C998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Дипломный проект</a:t>
            </a:r>
            <a:br>
              <a:rPr sz="48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Оптимизация движения денежных потоков в учреждениях сферы здравоохранения (на примере ГУЗ «Областной кожно-венерологический диспансер»)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120" y="3886200"/>
            <a:ext cx="5715000" cy="23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удентка гр. ФН-6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ециаль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Финансы и кредит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мскова Александ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Финансово-экономическое обоснование организации анонимного медицинского обслуживания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счет точки безубыточности и запаса финансовой устойчивости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0080" y="2058840"/>
            <a:ext cx="768384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Таким образом, проведенные анализ и экономическое обоснование предполагаемого отделения анонимной медицинской помощи показывают, что подобная реструктуризация деятельности анализируемого предприятия экономически выгодна и предприятие получит достаточно высокую прибыль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Цель и задачи дипломного проект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ью дипломного проекта было проанализировать пути оптимизации движения денежных потоков в учреждениях сферы здравоохран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соответствии с поставленной целью в дипломном проекте были поставлены и решены следующие 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Рассмотрены теоретические источники по проблемам управления денежными потоками предприятия и по проблемам оптимизации этой деятельности в условиях развития рыночных отнош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Изучены методики анализа управления денежными потоками предприят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Проанализированы состав, структура, динамика денежных потоков в ГУЗ «Областной кожно-венерологический диспансер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Подготовлены предложения по оптимизации процесса управления денежными потоками и произведена оценка эффективности предлагаемых мероприят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Финансирование учреждений здравоохранения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933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енежные потоки предприят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12800"/>
            <a:ext cx="82296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Анализ показателей эффективности использования оборотных средств ГУЗ «Областной кожно-венерологический диспансер» за 2005 - 2009 гг.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7586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Анализ поступлений финансовых средств по комплексным целевым программам из бюджета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Исходные данные для расчета экономической эффективности предлагаемых мероприят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060640"/>
            <a:ext cx="82296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Эффективность мероприятий по повышению эффективности использования оборудования отдела платных косметических услуг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2679840"/>
            <a:ext cx="82296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aly</cp:lastModifiedBy>
  <dcterms:modified xsi:type="dcterms:W3CDTF">2011-02-02T17:02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