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9A0-81B0-4015-9B84-DB4CE34FC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8723-E7FF-41F2-A2D1-2007D178E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0B2D-7BE2-444F-B0A9-A38396BB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39D4-2023-4E35-9973-4FC05EC18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458D-A817-4942-B10F-AFEFD6C8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0925-09D4-4042-A567-0A7EA24E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DE10-39BC-4D6B-B02A-6B02CC31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49F2-431E-4625-81F0-92C78979D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58C29-9B4C-4B3A-B685-FDC549004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C6A9-92E7-41BD-A047-5EFA5BE7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473AE-F977-4134-BBD7-E6AB07D1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AD2D-C2F1-4EBB-94C0-C2B638E6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6AF40-86A7-4A9F-9662-F26A6A8B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34A5-5EA8-48A1-BA68-9C5F11A2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AA56-519D-49C2-9FB8-6A8D1C39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EA38-5B0A-4CD6-A8E6-B94CD981E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F7518-2BAF-4639-B32F-26B1D121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B5DA-9A2D-4B9E-8165-83FC0C3F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13FE-A388-42AE-A1FA-384E19D61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A794-1827-4CF8-A5C7-E77B2953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991-0AAF-441D-96A8-66D06791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9CD-55BA-4D70-9637-F9BD9FAF4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5742-C132-477E-A4A6-F12414A9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7300-E949-4277-B5BB-2C3AF38D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1AF05-7237-4087-9C58-47B00FC99AD5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F0C8-7315-4692-B1B9-29A5B10801B0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C8B2-9921-454C-8E82-5CC90BC56E11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4D63-1FA4-4534-BE77-307ACEDF7891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43000" y="825480"/>
            <a:ext cx="4724280" cy="23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елки и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аминокислот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33920" y="8007480"/>
            <a:ext cx="281916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лимовец Александр и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йлов Алексей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8172360"/>
            <a:ext cx="7142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220011"/>
                </a:solidFill>
                <a:latin typeface="Impact"/>
              </a:rPr>
              <a:t>11-3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220011"/>
              </a:solidFill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0:12:51Z</dcterms:created>
  <dc:creator>Алексей</dc:creator>
  <dc:description/>
  <dc:language>en-US</dc:language>
  <cp:lastModifiedBy>Алексей</cp:lastModifiedBy>
  <cp:lastPrinted>2002-03-18T20:47:09Z</cp:lastPrinted>
  <dcterms:modified xsi:type="dcterms:W3CDTF">2002-03-19T13:01:34Z</dcterms:modified>
  <cp:revision>4</cp:revision>
  <dc:subject/>
  <dc:title>Заголовок слайда отсутствует</dc:title>
</cp:coreProperties>
</file>